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6486-38A9-4623-8EBF-A211D5DA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D63-8500-4006-B10C-1E958BDE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172-09AA-4193-A4F6-2849E5DD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E35-F4E1-4DB0-A331-B597B0E3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0978-A738-4816-A44B-2D101504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8554-58A6-4412-9F91-12CC5388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DEB4-EEE1-4392-BE06-633A77CA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E743-DE4B-4773-BF66-DEBD67FE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D970-66D2-4CEE-B41B-09CD5ACC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A45E-70D4-4034-AFD5-AC2C4F4B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E340-84D4-4104-96BD-D109909D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F4C-CD68-4990-8AFD-AEE0D978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F2CA-A171-4345-9B88-268C1CF1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A770-E094-42EC-909F-CBF03481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7435-134D-4059-8C70-9C9F46C8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314C-1F28-4944-ACE0-87125D7D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1D1F-DA34-4DCE-B3E8-2D1D4560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C4E97-A480-4575-B48B-4FC3DA61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BE1A0-5326-494B-A2C3-0A358E8B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3172-CF8C-4420-AECE-29CA39C6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E274F-72A6-40BC-BF20-F8495F30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E563-1ED6-4FFB-AA57-5623F9F8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E46-5E90-4103-85AB-867D74C5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96C1-D3C0-45BC-9F35-8989EA9D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0E05F-A7E4-4100-9912-731251CE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A10ED-282E-4A5F-A3F8-8D20F25D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A7493-DC81-40F6-84C3-A9189A62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5662-98A4-49B5-A353-0DC7B225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3216-DA72-4921-8B1D-09875FB4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8C2B7-F6B6-4538-97D6-B8CD43E1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1DC-219C-4862-8B35-B786046E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DFF-F0AB-4813-8045-95B95B98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2DE-740F-4FBB-AB28-EB5AEB2B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65A-B9DA-4331-AD22-507AF3A9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709-AB68-4698-B8E3-BDA99224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F43-3D7D-4CC4-8912-E1B24480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CD61-273F-403F-B208-84BF09057A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5A45-1122-4145-821C-A77AEBF1BC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3923-99CD-4918-81E8-1AF1B1AC4D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C:\Users\Ivica\Desktop\logo MZP-pre tlac.jpg"/>
          <p:cNvPicPr/>
          <p:nvPr/>
        </p:nvPicPr>
        <p:blipFill>
          <a:blip r:embed="rId1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785880" y="2000160"/>
            <a:ext cx="76309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ktuálny stav implement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Operačného programu Životné prostredie</a:t>
            </a:r>
            <a:br>
              <a:rPr sz="36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nášajúci: Ing. Ivica Matušíkov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ekcia environmentálnych programov a projekt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571680" y="142920"/>
            <a:ext cx="714240" cy="91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7572240" y="214200"/>
            <a:ext cx="1062000" cy="714600"/>
          </a:xfrm>
          <a:prstGeom prst="rect">
            <a:avLst/>
          </a:prstGeom>
          <a:ln w="0">
            <a:noFill/>
          </a:ln>
        </p:spPr>
      </p:pic>
      <p:sp>
        <p:nvSpPr>
          <p:cNvPr id="127" name="Rovná spojnica 10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214280" y="6143760"/>
            <a:ext cx="35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logo posm CMYK"/>
          <p:cNvPicPr/>
          <p:nvPr/>
        </p:nvPicPr>
        <p:blipFill>
          <a:blip r:embed="rId4"/>
          <a:stretch/>
        </p:blipFill>
        <p:spPr>
          <a:xfrm>
            <a:off x="3786120" y="714240"/>
            <a:ext cx="1198800" cy="357480"/>
          </a:xfrm>
          <a:prstGeom prst="rect">
            <a:avLst/>
          </a:prstGeom>
          <a:ln w="0">
            <a:noFill/>
          </a:ln>
        </p:spPr>
      </p:pic>
      <p:sp>
        <p:nvSpPr>
          <p:cNvPr id="130" name="Obdĺžnik 18"/>
          <p:cNvSpPr/>
          <p:nvPr/>
        </p:nvSpPr>
        <p:spPr>
          <a:xfrm>
            <a:off x="2643120" y="285840"/>
            <a:ext cx="36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čný program  Životné prostred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vná spojnica 23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ovná spojnica 2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199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– schválené žiad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ovná spojnica 7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71680" y="1643040"/>
            <a:ext cx="8143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fické znázornenie počtu schválených Žiadostí o NF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Graf 10" descr=""/>
          <p:cNvPicPr/>
          <p:nvPr/>
        </p:nvPicPr>
        <p:blipFill>
          <a:blip r:embed="rId3"/>
          <a:stretch/>
        </p:blipFill>
        <p:spPr>
          <a:xfrm>
            <a:off x="2279520" y="2279520"/>
            <a:ext cx="458496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Obrázok 10" descr="mapa-sk vyzvyIII.gif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206" name="Rovná spojnica 3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08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– schválené žiad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9" descr="C:\Users\Ivica\Desktop\logo MZP-pre tlac.jpg"/>
          <p:cNvPicPr/>
          <p:nvPr/>
        </p:nvPicPr>
        <p:blipFill>
          <a:blip r:embed="rId3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vná spojnica 8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BlokTextu 11"/>
          <p:cNvSpPr/>
          <p:nvPr/>
        </p:nvSpPr>
        <p:spPr>
          <a:xfrm>
            <a:off x="5402520" y="2357280"/>
            <a:ext cx="21744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šovský k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BlokTextu 12"/>
          <p:cNvSpPr/>
          <p:nvPr/>
        </p:nvSpPr>
        <p:spPr>
          <a:xfrm>
            <a:off x="2940480" y="2357280"/>
            <a:ext cx="15782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Žilinský k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BlokTextu 13"/>
          <p:cNvSpPr/>
          <p:nvPr/>
        </p:nvSpPr>
        <p:spPr>
          <a:xfrm>
            <a:off x="2902320" y="3786120"/>
            <a:ext cx="24454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Banskobystrický k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ĺžnik 1"/>
          <p:cNvSpPr/>
          <p:nvPr/>
        </p:nvSpPr>
        <p:spPr>
          <a:xfrm>
            <a:off x="395280" y="1557360"/>
            <a:ext cx="8143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azmluvnené Žiadosti o NF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objeme: 721 mil. EUR (34% z celkovej alokác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čet: 3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vná spojnica 2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18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. Aktuálny stav implementácie – zazmluvnené žiad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vná spojnica 7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14800" y="3000240"/>
          <a:ext cx="3976560" cy="2600640"/>
        </p:xfrm>
        <a:graphic>
          <a:graphicData uri="http://schemas.openxmlformats.org/drawingml/2006/table">
            <a:tbl>
              <a:tblPr/>
              <a:tblGrid>
                <a:gridCol w="1476360"/>
                <a:gridCol w="2500200"/>
              </a:tblGrid>
              <a:tr h="37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itná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et Žiadostí o N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ovná spojnica 2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25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. Aktuálny stav implementácie – zazmluvnené žiad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vná spojnica 7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71680" y="1643040"/>
            <a:ext cx="8143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Grafické znázornenie počtu zazmluvnených Žiadostí o NFP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1"/>
          <p:cNvGraphicFramePr/>
          <p:nvPr/>
        </p:nvGraphicFramePr>
        <p:xfrm>
          <a:off x="1979640" y="2060640"/>
          <a:ext cx="5400720" cy="345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060640"/>
                    <a:ext cx="5400720" cy="34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755640" y="1341360"/>
          <a:ext cx="7743960" cy="4230720"/>
        </p:xfrm>
        <a:graphic>
          <a:graphicData uri="http://schemas.openxmlformats.org/drawingml/2006/table">
            <a:tbl>
              <a:tblPr/>
              <a:tblGrid>
                <a:gridCol w="1295280"/>
                <a:gridCol w="1648080"/>
                <a:gridCol w="1581120"/>
                <a:gridCol w="1708200"/>
                <a:gridCol w="1511280"/>
              </a:tblGrid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čný cie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okácia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ŽP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vále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azmluvne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ostat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18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3" name="Picture 9" descr="C:\Users\Ivica\Desktop\logo MZP-pre tlac.jpg"/>
          <p:cNvPicPr/>
          <p:nvPr/>
        </p:nvPicPr>
        <p:blipFill>
          <a:blip r:embed="rId1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vná spojnica 7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vná spojnica 8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38" name="Obdĺžnik 14"/>
          <p:cNvSpPr/>
          <p:nvPr/>
        </p:nvSpPr>
        <p:spPr>
          <a:xfrm>
            <a:off x="1714680" y="7142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– finančný prehľad v mil. E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00040" y="1357200"/>
            <a:ext cx="8143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ajčastejšie dôvody vylúčenia žiadostí o NF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splnenie kritérií formálnej správnost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splnenie kritérií oprávnenosti žiadateľa alebo ak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preukázanie vysporiadania majetkovo-právnych vzťahov</a:t>
            </a:r>
            <a:br>
              <a:rPr sz="2000"/>
            </a:b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k nehnuteľnostia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doloženie povinných prílo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súlad so schémou štátnej pomo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splnenie kritérií odborného hodnote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dostatočná výška alokác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vná spojnica 4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42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– dôvody vylúčeni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vná spojnica 9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Názov projektu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Úprava potoka Bobkovec v obci Jasen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Prijímateľ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Obec Jasen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Prioritná os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2. Ochrana pred povodňa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Doba realizácie projektu: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09/2008 -10/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Výdavky projektu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Celkové oprávnené výdavky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189 718,46 Eur               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NF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180 232,53 Eur</a:t>
            </a:r>
            <a:br>
              <a:rPr sz="1800"/>
            </a:b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vlastné zdroje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   9 485,93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Dosiahnuté výsledky projektu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Zrekonštruovaním potoka Bobkovec v obci Jasenov v dĺžke 206 m</a:t>
            </a:r>
            <a:br>
              <a:rPr sz="1800"/>
            </a:b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sa zabezpečila protipovodňová ochrana územia o ploche 0,01 km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ovná spojnica 6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49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Príklady úspešne zrealizovaných projekt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ovná spojnica 11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3455640" cy="2660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4429080" y="3000240"/>
            <a:ext cx="3816360" cy="2551320"/>
          </a:xfrm>
          <a:prstGeom prst="rect">
            <a:avLst/>
          </a:prstGeom>
          <a:ln w="0">
            <a:noFill/>
          </a:ln>
        </p:spPr>
      </p:pic>
      <p:sp>
        <p:nvSpPr>
          <p:cNvPr id="255" name="Rovná spojnica 6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8" descr="logo posm CMYK"/>
          <p:cNvPicPr/>
          <p:nvPr/>
        </p:nvPicPr>
        <p:blipFill>
          <a:blip r:embed="rId3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57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Príklady úspešne zrealizovaných projekt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C:\Users\Ivica\Desktop\logo MZP-pre tlac.jpg"/>
          <p:cNvPicPr/>
          <p:nvPr/>
        </p:nvPicPr>
        <p:blipFill>
          <a:blip r:embed="rId4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vná spojnica 11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ĺžnik 12"/>
          <p:cNvSpPr/>
          <p:nvPr/>
        </p:nvSpPr>
        <p:spPr>
          <a:xfrm>
            <a:off x="857160" y="4500720"/>
            <a:ext cx="271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 realizáci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ĺžnik 13"/>
          <p:cNvSpPr/>
          <p:nvPr/>
        </p:nvSpPr>
        <p:spPr>
          <a:xfrm>
            <a:off x="4929120" y="2571840"/>
            <a:ext cx="271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 realizá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ovná spojnica 8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65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Príklady úspešne zrealizovaných projekt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vná spojnica 13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28760" y="1428840"/>
            <a:ext cx="835812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ázov projektu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Ekologizácia MHD v Banskej Bystr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jímateľ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Slovenská autobusová doprava Zvolen, a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oritná os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3. Ochrana ovzdušia a minimalizácia nepriaznivých</a:t>
            </a:r>
            <a:br>
              <a:rPr sz="1800"/>
            </a:b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vplyvov zmeny klí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ba realizácie projektu: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/2009 - 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ýdavky projektu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elkové oprávnené výdavky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4 115 566,44 Eur               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F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3 909 788,12 Eur</a:t>
            </a:r>
            <a:br>
              <a:rPr sz="1800"/>
            </a:b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lastné zdroje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205 778,32 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siahnuté výsledky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ákupom 15 plynofikovaných autobusov sa znížili emisie znečisťujúcej látky PM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vyjadrené v hmotnostnej jednotke g/ na 100 km o 34,6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DSCN3636"/>
          <p:cNvPicPr/>
          <p:nvPr/>
        </p:nvPicPr>
        <p:blipFill>
          <a:blip r:embed="rId1"/>
          <a:stretch/>
        </p:blipFill>
        <p:spPr>
          <a:xfrm>
            <a:off x="357120" y="1500120"/>
            <a:ext cx="304632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GEN_8180"/>
          <p:cNvPicPr/>
          <p:nvPr/>
        </p:nvPicPr>
        <p:blipFill>
          <a:blip r:embed="rId2"/>
          <a:stretch/>
        </p:blipFill>
        <p:spPr>
          <a:xfrm>
            <a:off x="3643200" y="3286080"/>
            <a:ext cx="3529080" cy="2405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271009_014"/>
          <p:cNvPicPr/>
          <p:nvPr/>
        </p:nvPicPr>
        <p:blipFill>
          <a:blip r:embed="rId3"/>
          <a:stretch/>
        </p:blipFill>
        <p:spPr>
          <a:xfrm>
            <a:off x="6215040" y="207180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273" name="Rovná spojnica 7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logo posm CMYK"/>
          <p:cNvPicPr/>
          <p:nvPr/>
        </p:nvPicPr>
        <p:blipFill>
          <a:blip r:embed="rId4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75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Príklady úspešne zrealizovaných projekt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9" descr="C:\Users\Ivica\Desktop\logo MZP-pre tlac.jpg"/>
          <p:cNvPicPr/>
          <p:nvPr/>
        </p:nvPicPr>
        <p:blipFill>
          <a:blip r:embed="rId5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vná spojnica 12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dĺžnik 13"/>
          <p:cNvSpPr/>
          <p:nvPr/>
        </p:nvSpPr>
        <p:spPr>
          <a:xfrm>
            <a:off x="500040" y="3857760"/>
            <a:ext cx="271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 realizáci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bdĺžnik 14"/>
          <p:cNvSpPr/>
          <p:nvPr/>
        </p:nvSpPr>
        <p:spPr>
          <a:xfrm>
            <a:off x="4643280" y="1714680"/>
            <a:ext cx="271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 realizá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714240"/>
            <a:ext cx="1198800" cy="357480"/>
          </a:xfrm>
          <a:prstGeom prst="rect">
            <a:avLst/>
          </a:prstGeom>
          <a:ln w="0">
            <a:noFill/>
          </a:ln>
        </p:spPr>
      </p:pic>
      <p:sp>
        <p:nvSpPr>
          <p:cNvPr id="133" name="Rovná spojnica 2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ĺžnik 14"/>
          <p:cNvSpPr/>
          <p:nvPr/>
        </p:nvSpPr>
        <p:spPr>
          <a:xfrm>
            <a:off x="2643120" y="285840"/>
            <a:ext cx="36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čný program  Životné prostred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36" name="Rovná spojnica 5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214280" y="6143760"/>
            <a:ext cx="35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ĺžnik 7"/>
          <p:cNvSpPr/>
          <p:nvPr/>
        </p:nvSpPr>
        <p:spPr>
          <a:xfrm>
            <a:off x="642960" y="1500120"/>
            <a:ext cx="7358040" cy="45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a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tuálny stav implement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íklady úspešne zrealizovaných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loženie veľkéh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9" descr="C:\Users\Ivica\Desktop\logo MZP-pre tlac.jpg"/>
          <p:cNvPicPr/>
          <p:nvPr/>
        </p:nvPicPr>
        <p:blipFill>
          <a:blip r:embed="rId1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vná spojnica 9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vná spojnica 10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86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Príklady úspešne zrealizovaných projekt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428760" y="1428840"/>
            <a:ext cx="835812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zov projektu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Šurianky – rekultivácia sklád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jímateľ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bec Šuria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ná 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. Odpadové hospodárst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ba realizácie projektu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/2007 - 09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ýdavky projektu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kové oprávnené výdav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30 142,96 Eur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8 635,82 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stné zdro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1 507,15 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siahnuté výsledky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kultivácia skládky komunálneho odpadu v objeme 8 965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rekultivovanej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6" descr="IMG_8466"/>
          <p:cNvPicPr/>
          <p:nvPr/>
        </p:nvPicPr>
        <p:blipFill>
          <a:blip r:embed="rId1"/>
          <a:stretch/>
        </p:blipFill>
        <p:spPr>
          <a:xfrm>
            <a:off x="500040" y="1357200"/>
            <a:ext cx="3745080" cy="2810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IMG_0135"/>
          <p:cNvPicPr/>
          <p:nvPr/>
        </p:nvPicPr>
        <p:blipFill>
          <a:blip r:embed="rId2"/>
          <a:stretch/>
        </p:blipFill>
        <p:spPr>
          <a:xfrm>
            <a:off x="4714920" y="2857680"/>
            <a:ext cx="3816360" cy="2734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C:\Users\Ivica\Desktop\logo MZP-pre tlac.jpg"/>
          <p:cNvPicPr/>
          <p:nvPr/>
        </p:nvPicPr>
        <p:blipFill>
          <a:blip r:embed="rId3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vná spojnica 8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ovná spojnica 9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8" descr="logo posm CMYK"/>
          <p:cNvPicPr/>
          <p:nvPr/>
        </p:nvPicPr>
        <p:blipFill>
          <a:blip r:embed="rId4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95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Príklady úspešne zrealizovaných projekt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bdĺžnik 12"/>
          <p:cNvSpPr/>
          <p:nvPr/>
        </p:nvSpPr>
        <p:spPr>
          <a:xfrm>
            <a:off x="928800" y="4286160"/>
            <a:ext cx="2714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 realizáci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dĺžnik 13"/>
          <p:cNvSpPr/>
          <p:nvPr/>
        </p:nvSpPr>
        <p:spPr>
          <a:xfrm>
            <a:off x="5357880" y="2357280"/>
            <a:ext cx="2714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 realizá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99" name="Rovná spojnica 9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Predloženie 1. veľkého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vná spojnica 8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39640" y="1773360"/>
            <a:ext cx="806472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ázov projektu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KK RK a ČOV Liptovská Teplá, Liptovské Slia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jímateľ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odárenská spoločnosť Ružomberok, a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ba realizácie projektu: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09/2010 - 03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ýdavky projektu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elkové oprávnené výdavky 20 432 443,1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ur               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F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17 173 414,27 Eur</a:t>
            </a:r>
            <a:br>
              <a:rPr sz="1800"/>
            </a:b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lastné zdroje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           3 259 028,85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Cieľ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abezpečenie odvádzania a čistenia komunálnych odpadových vôd v regióne Dolného Liptova a dosiahnutie min. 85% napojenosti obyvateľstva na verejnú kanalizáciu v aglomeráciách Ružomberok, Sliače a Lúč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306" name="Rovná spojnica 9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Predloženie 1. veľkého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ovná spojnica 8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39640" y="2421000"/>
            <a:ext cx="756144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ĺžka novovybudovaných kanalizačných sietí                          40 116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et zrekonštruovaných ČOV                                                         1 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et EO napojených na novovybudovanú kanalizačnú sieť    5 730 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et EO napojených na zrekonštruovanú ČOV                       7 207 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7320" y="1413000"/>
            <a:ext cx="40564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ateľné ukazovatele projek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9" descr="C:\Users\Ivica\Desktop\logo MZP-pre tlac.jpg"/>
          <p:cNvPicPr/>
          <p:nvPr/>
        </p:nvPicPr>
        <p:blipFill>
          <a:blip r:embed="rId1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500040" y="1857240"/>
            <a:ext cx="81439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nisterstvo životného prostredia 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ekcia environmentálnych programov a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mestie Ľ. Štúra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812 35 Bratis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6600"/>
                </a:solidFill>
                <a:latin typeface="Arial"/>
              </a:rPr>
              <a:t>www.opzp.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vná spojnica 10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214280" y="6143760"/>
            <a:ext cx="35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714240"/>
            <a:ext cx="1198800" cy="357480"/>
          </a:xfrm>
          <a:prstGeom prst="rect">
            <a:avLst/>
          </a:prstGeom>
          <a:ln w="0">
            <a:noFill/>
          </a:ln>
        </p:spPr>
      </p:pic>
      <p:sp>
        <p:nvSpPr>
          <p:cNvPr id="318" name="Obdĺžnik 18"/>
          <p:cNvSpPr/>
          <p:nvPr/>
        </p:nvSpPr>
        <p:spPr>
          <a:xfrm>
            <a:off x="2643120" y="285840"/>
            <a:ext cx="36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čný program  Životné prostred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vná spojnica 23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9" descr="C:\Users\Ivica\Desktop\logo MZP-pre tlac.jpg"/>
          <p:cNvPicPr/>
          <p:nvPr/>
        </p:nvPicPr>
        <p:blipFill>
          <a:blip r:embed="rId1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4"/>
          <p:cNvSpPr/>
          <p:nvPr/>
        </p:nvSpPr>
        <p:spPr>
          <a:xfrm>
            <a:off x="500040" y="2000160"/>
            <a:ext cx="814392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ovná spojnica 10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1214280" y="6143760"/>
            <a:ext cx="35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714240"/>
            <a:ext cx="1198800" cy="357480"/>
          </a:xfrm>
          <a:prstGeom prst="rect">
            <a:avLst/>
          </a:prstGeom>
          <a:ln w="0">
            <a:noFill/>
          </a:ln>
        </p:spPr>
      </p:pic>
      <p:sp>
        <p:nvSpPr>
          <p:cNvPr id="325" name="Obdĺžnik 18"/>
          <p:cNvSpPr/>
          <p:nvPr/>
        </p:nvSpPr>
        <p:spPr>
          <a:xfrm>
            <a:off x="2643120" y="285840"/>
            <a:ext cx="36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čný program  Životné prostred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ovná spojnica 23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428760" y="1357200"/>
            <a:ext cx="81439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yhlásené výz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m: 1, 5 mld. EUR (73% z celkovej alokácie OP Ž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kový počet: 33 (uzavretých 31, aktuálne otvorené 2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vná spojnica 5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C:\Users\Ivica\Desktop\logo MZP-pre tlac.jpg"/>
          <p:cNvPicPr/>
          <p:nvPr/>
        </p:nvPicPr>
        <p:blipFill>
          <a:blip r:embed="rId1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ovná spojnica 10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145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- výzv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143080" y="3143160"/>
          <a:ext cx="4786200" cy="2225880"/>
        </p:xfrm>
        <a:graphic>
          <a:graphicData uri="http://schemas.openxmlformats.org/drawingml/2006/table">
            <a:tbl>
              <a:tblPr/>
              <a:tblGrid>
                <a:gridCol w="1776600"/>
                <a:gridCol w="3009600"/>
              </a:tblGrid>
              <a:tr h="37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itná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et vyhlásených výzi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raf 1" descr=""/>
          <p:cNvPicPr/>
          <p:nvPr/>
        </p:nvPicPr>
        <p:blipFill>
          <a:blip r:embed="rId1"/>
          <a:stretch/>
        </p:blipFill>
        <p:spPr>
          <a:xfrm>
            <a:off x="2139840" y="2494080"/>
            <a:ext cx="4584960" cy="2754360"/>
          </a:xfrm>
          <a:prstGeom prst="rect">
            <a:avLst/>
          </a:prstGeom>
          <a:ln w="0">
            <a:noFill/>
          </a:ln>
        </p:spPr>
      </p:pic>
      <p:sp>
        <p:nvSpPr>
          <p:cNvPr id="148" name="Rovná spojnica 2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150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- výzv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C:\Users\Ivica\Desktop\logo MZP-pre tlac.jpg"/>
          <p:cNvPicPr/>
          <p:nvPr/>
        </p:nvPicPr>
        <p:blipFill>
          <a:blip r:embed="rId3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vná spojnica 7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71680" y="1643040"/>
            <a:ext cx="8143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fické znázornenie počtu vyhlásených výzie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ktuálne otvorené výzv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9" descr="C:\Users\Ivica\Desktop\logo MZP-pre tlac.jpg"/>
          <p:cNvPicPr/>
          <p:nvPr/>
        </p:nvPicPr>
        <p:blipFill>
          <a:blip r:embed="rId1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ovná spojnica 6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ovná spojnica 7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161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- výzv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95280" y="1773360"/>
          <a:ext cx="8353440" cy="3902040"/>
        </p:xfrm>
        <a:graphic>
          <a:graphicData uri="http://schemas.openxmlformats.org/drawingml/2006/table">
            <a:tbl>
              <a:tblPr/>
              <a:tblGrid>
                <a:gridCol w="1700280"/>
                <a:gridCol w="2452680"/>
                <a:gridCol w="2101680"/>
                <a:gridCol w="2098800"/>
              </a:tblGrid>
              <a:tr h="90468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itná 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čný cie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átum zverejn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átum uzatvor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ška alokovanej sumy 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18590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4 Odpadové hospodárst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 Podpora aktivít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oblasti separovaného zbe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 Podpora aktivít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 zhodnocovanie odpad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.02.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6.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 m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2 Ochrana pred povodň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 Vybudovanie povodňového varovného a predpovedné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02.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07.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5 m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bdĺžnik 1"/>
          <p:cNvSpPr/>
          <p:nvPr/>
        </p:nvSpPr>
        <p:spPr>
          <a:xfrm>
            <a:off x="500040" y="1500120"/>
            <a:ext cx="814392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jaté Žiadosti o NFP: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m: 2,9 mld.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čet: 1 285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vná spojnica 2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166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– prijaté žiad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vná spojnica 7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86080" y="2857680"/>
          <a:ext cx="3976560" cy="2595240"/>
        </p:xfrm>
        <a:graphic>
          <a:graphicData uri="http://schemas.openxmlformats.org/drawingml/2006/table">
            <a:tbl>
              <a:tblPr/>
              <a:tblGrid>
                <a:gridCol w="1476360"/>
                <a:gridCol w="2500200"/>
              </a:tblGrid>
              <a:tr h="37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itná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et Žiadostí o N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vná spojnica 2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vná spojnica 7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71680" y="1643040"/>
            <a:ext cx="8143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fické znázornenie počtu prijatých Žiadostí o NF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Graf 10" descr=""/>
          <p:cNvPicPr/>
          <p:nvPr/>
        </p:nvPicPr>
        <p:blipFill>
          <a:blip r:embed="rId3"/>
          <a:stretch/>
        </p:blipFill>
        <p:spPr>
          <a:xfrm>
            <a:off x="2279520" y="2419200"/>
            <a:ext cx="4597560" cy="2908440"/>
          </a:xfrm>
          <a:prstGeom prst="rect">
            <a:avLst/>
          </a:prstGeom>
          <a:ln w="0">
            <a:noFill/>
          </a:ln>
        </p:spPr>
      </p:pic>
      <p:sp>
        <p:nvSpPr>
          <p:cNvPr id="178" name="Obdĺžnik 14"/>
          <p:cNvSpPr/>
          <p:nvPr/>
        </p:nvSpPr>
        <p:spPr>
          <a:xfrm>
            <a:off x="1857240" y="785880"/>
            <a:ext cx="55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– prijaté žiad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Obrázok 1" descr="mapa-sk vyzvyII.gif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530680"/>
          </a:xfrm>
          <a:prstGeom prst="rect">
            <a:avLst/>
          </a:prstGeom>
          <a:ln w="0">
            <a:noFill/>
          </a:ln>
        </p:spPr>
      </p:pic>
      <p:sp>
        <p:nvSpPr>
          <p:cNvPr id="180" name="BlokTextu 2"/>
          <p:cNvSpPr/>
          <p:nvPr/>
        </p:nvSpPr>
        <p:spPr>
          <a:xfrm>
            <a:off x="2940480" y="2357280"/>
            <a:ext cx="15782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Žilinský k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BlokTextu 3"/>
          <p:cNvSpPr/>
          <p:nvPr/>
        </p:nvSpPr>
        <p:spPr>
          <a:xfrm>
            <a:off x="5402520" y="2357280"/>
            <a:ext cx="21744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šovský k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BlokTextu 4"/>
          <p:cNvSpPr/>
          <p:nvPr/>
        </p:nvSpPr>
        <p:spPr>
          <a:xfrm>
            <a:off x="1726920" y="4572000"/>
            <a:ext cx="18039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Nitriansky k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184" name="Rovná spojnica 6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dĺžnik 14"/>
          <p:cNvSpPr/>
          <p:nvPr/>
        </p:nvSpPr>
        <p:spPr>
          <a:xfrm>
            <a:off x="1857240" y="785880"/>
            <a:ext cx="55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– prijaté žiad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ovná spojnica 8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Ivica\Desktop\logo MZP-pre tlac.jpg"/>
          <p:cNvPicPr/>
          <p:nvPr/>
        </p:nvPicPr>
        <p:blipFill>
          <a:blip r:embed="rId3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Obdĺžnik 1"/>
          <p:cNvSpPr/>
          <p:nvPr/>
        </p:nvSpPr>
        <p:spPr>
          <a:xfrm>
            <a:off x="500040" y="1571760"/>
            <a:ext cx="814392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válené Žiadosti o NF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objeme: 1,1 mld. EUR (55% z celkovej alokác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čet: 46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9" descr="C:\Users\Ivica\Desktop\logo MZP-pre tlac.jpg"/>
          <p:cNvPicPr/>
          <p:nvPr/>
        </p:nvPicPr>
        <p:blipFill>
          <a:blip r:embed="rId1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vná spojnica 4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vná spojnica 5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195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– schválené žiad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14800" y="3000240"/>
          <a:ext cx="3976560" cy="2595600"/>
        </p:xfrm>
        <a:graphic>
          <a:graphicData uri="http://schemas.openxmlformats.org/drawingml/2006/table">
            <a:tbl>
              <a:tblPr/>
              <a:tblGrid>
                <a:gridCol w="1476360"/>
                <a:gridCol w="2500200"/>
              </a:tblGrid>
              <a:tr h="37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itná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et Žiadostí o N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8:56:38Z</dcterms:created>
  <dc:creator>maximova</dc:creator>
  <dc:description/>
  <dc:language>en-US</dc:language>
  <cp:lastModifiedBy>Ivica Matušíková</cp:lastModifiedBy>
  <dcterms:modified xsi:type="dcterms:W3CDTF">2010-05-26T10:00:55Z</dcterms:modified>
  <cp:revision>302</cp:revision>
  <dc:subject/>
  <dc:title>MONITOROVACÍ VÝBOR 7.5.2008</dc:title>
</cp:coreProperties>
</file>